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5A1A-938F-43C1-9E50-682B8612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4059-1BF3-4144-91CB-E09BFAD9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327-E00F-4E73-852D-75986E6A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860-DF15-41AB-B446-3CE4ACD4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DB7-2A15-4A5D-B849-A4025880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885-0240-4A0E-87F8-15250B16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725A-B0EE-4BBB-B027-040D6114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550-33E5-42B0-802F-1389AFB1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6518-0518-48E7-A8EA-154BECD5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60B1-7736-4871-89F7-4828FDB4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FD4-55D0-45A6-839E-6166BEDD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412B-54B4-4DE3-B9E3-FF9D1327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FC64-FE13-4E3E-BED9-05180D1CF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D15A Introducción a la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 de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apas de un proyecto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22200" y="2060640"/>
            <a:ext cx="1729080" cy="100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udio(s)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(pre)fac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1052640"/>
            <a:ext cx="1908000" cy="863640"/>
          </a:xfrm>
          <a:prstGeom prst="cloudCallout">
            <a:avLst>
              <a:gd name="adj1" fmla="val -38851"/>
              <a:gd name="adj2" fmla="val 443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11640" y="2421000"/>
            <a:ext cx="287280" cy="287280"/>
          </a:xfrm>
          <a:prstGeom prst="diamond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0"/>
            <a:endCxn id="50" idx="1"/>
          </p:cNvCxnSpPr>
          <p:nvPr/>
        </p:nvCxnSpPr>
        <p:spPr>
          <a:xfrm flipH="1" rot="16200000">
            <a:off x="492840" y="1836720"/>
            <a:ext cx="699120" cy="7592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0" idx="3"/>
            <a:endCxn id="52" idx="1"/>
          </p:cNvCxnSpPr>
          <p:nvPr/>
        </p:nvCxnSpPr>
        <p:spPr>
          <a:xfrm>
            <a:off x="2950920" y="256500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2" idx="2"/>
            <a:endCxn id="50" idx="2"/>
          </p:cNvCxnSpPr>
          <p:nvPr/>
        </p:nvCxnSpPr>
        <p:spPr>
          <a:xfrm rot="5400000">
            <a:off x="2590920" y="2203920"/>
            <a:ext cx="361080" cy="1369080"/>
          </a:xfrm>
          <a:prstGeom prst="bentConnector3">
            <a:avLst>
              <a:gd name="adj1" fmla="val 16337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951280" y="1484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0"/>
            <a:endCxn id="56" idx="2"/>
          </p:cNvCxnSpPr>
          <p:nvPr/>
        </p:nvCxnSpPr>
        <p:spPr>
          <a:xfrm flipV="1">
            <a:off x="3455640" y="1915920"/>
            <a:ext cx="1080" cy="5054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886200" y="2349360"/>
            <a:ext cx="129528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2" idx="3"/>
            <a:endCxn id="58" idx="1"/>
          </p:cNvCxnSpPr>
          <p:nvPr/>
        </p:nvCxnSpPr>
        <p:spPr>
          <a:xfrm>
            <a:off x="3598920" y="256500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5759280" y="191628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227484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59280" y="263700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59280" y="299556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8" idx="3"/>
            <a:endCxn id="60" idx="1"/>
          </p:cNvCxnSpPr>
          <p:nvPr/>
        </p:nvCxnSpPr>
        <p:spPr>
          <a:xfrm flipV="1">
            <a:off x="5181120" y="2060280"/>
            <a:ext cx="578520" cy="50544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8" idx="3"/>
            <a:endCxn id="61" idx="1"/>
          </p:cNvCxnSpPr>
          <p:nvPr/>
        </p:nvCxnSpPr>
        <p:spPr>
          <a:xfrm flipV="1">
            <a:off x="5181120" y="2418840"/>
            <a:ext cx="578520" cy="1468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3"/>
            <a:endCxn id="62" idx="1"/>
          </p:cNvCxnSpPr>
          <p:nvPr/>
        </p:nvCxnSpPr>
        <p:spPr>
          <a:xfrm>
            <a:off x="5181120" y="2565360"/>
            <a:ext cx="578520" cy="21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8" idx="3"/>
            <a:endCxn id="63" idx="1"/>
          </p:cNvCxnSpPr>
          <p:nvPr/>
        </p:nvCxnSpPr>
        <p:spPr>
          <a:xfrm>
            <a:off x="5181120" y="2565360"/>
            <a:ext cx="578520" cy="5752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7272360" y="2421000"/>
            <a:ext cx="144000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ju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85080" y="177336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6200" y="4724280"/>
            <a:ext cx="129708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0560" y="4724280"/>
            <a:ext cx="1224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38560" y="4005360"/>
            <a:ext cx="936720" cy="576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de En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14920" y="4724280"/>
            <a:ext cx="122364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4184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9928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68" idx="3"/>
            <a:endCxn id="70" idx="1"/>
          </p:cNvCxnSpPr>
          <p:nvPr/>
        </p:nvCxnSpPr>
        <p:spPr>
          <a:xfrm flipH="1">
            <a:off x="645840" y="2636640"/>
            <a:ext cx="8066880" cy="2448360"/>
          </a:xfrm>
          <a:prstGeom prst="bentConnector5">
            <a:avLst>
              <a:gd name="adj1" fmla="val -2829"/>
              <a:gd name="adj2" fmla="val 47014"/>
              <a:gd name="adj3" fmla="val 10282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0" idx="3"/>
            <a:endCxn id="71" idx="1"/>
          </p:cNvCxnSpPr>
          <p:nvPr/>
        </p:nvCxnSpPr>
        <p:spPr>
          <a:xfrm>
            <a:off x="194328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1" idx="3"/>
            <a:endCxn id="73" idx="1"/>
          </p:cNvCxnSpPr>
          <p:nvPr/>
        </p:nvCxnSpPr>
        <p:spPr>
          <a:xfrm>
            <a:off x="3454200" y="508428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1" idx="0"/>
            <a:endCxn id="72" idx="1"/>
          </p:cNvCxnSpPr>
          <p:nvPr/>
        </p:nvCxnSpPr>
        <p:spPr>
          <a:xfrm flipH="1" flipV="1" rot="5400000">
            <a:off x="2825640" y="4311000"/>
            <a:ext cx="430920" cy="39600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80" name=""/>
          <p:cNvCxnSpPr>
            <a:stCxn id="72" idx="3"/>
            <a:endCxn id="73" idx="0"/>
          </p:cNvCxnSpPr>
          <p:nvPr/>
        </p:nvCxnSpPr>
        <p:spPr>
          <a:xfrm>
            <a:off x="4174920" y="4293720"/>
            <a:ext cx="253080" cy="43092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5616720" y="400536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 de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3" idx="3"/>
            <a:endCxn id="74" idx="1"/>
          </p:cNvCxnSpPr>
          <p:nvPr/>
        </p:nvCxnSpPr>
        <p:spPr>
          <a:xfrm>
            <a:off x="5038560" y="5084280"/>
            <a:ext cx="504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3" idx="3"/>
            <a:endCxn id="81" idx="1"/>
          </p:cNvCxnSpPr>
          <p:nvPr/>
        </p:nvCxnSpPr>
        <p:spPr>
          <a:xfrm flipV="1">
            <a:off x="5038560" y="4220280"/>
            <a:ext cx="578880" cy="864360"/>
          </a:xfrm>
          <a:prstGeom prst="bentConnector3">
            <a:avLst>
              <a:gd name="adj1" fmla="val 49968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4" idx="3"/>
            <a:endCxn id="75" idx="1"/>
          </p:cNvCxnSpPr>
          <p:nvPr/>
        </p:nvCxnSpPr>
        <p:spPr>
          <a:xfrm>
            <a:off x="691200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633744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5016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16720" y="587700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érmino (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75" idx="3"/>
            <a:endCxn id="87" idx="0"/>
          </p:cNvCxnSpPr>
          <p:nvPr/>
        </p:nvCxnSpPr>
        <p:spPr>
          <a:xfrm flipH="1">
            <a:off x="6876360" y="5084280"/>
            <a:ext cx="1693080" cy="793080"/>
          </a:xfrm>
          <a:prstGeom prst="bentConnector4">
            <a:avLst>
              <a:gd name="adj1" fmla="val -13504"/>
              <a:gd name="adj2" fmla="val 72706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s de Proyecto Según Ejecu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Ingeniería Propi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Ingeniería llave en mano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Ingeniería por Administración Delegada(*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Ingeniería por Administración Controla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8000" y="260280"/>
          <a:ext cx="8856720" cy="53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885672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ipos de Contrato 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ios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Suma alzad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Precio unitario por hora efectiv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Precio unitario por hora efectiva (máximo garantizado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Costos directos y suma alzada de gastos gener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rminología Contractual - Leg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484280"/>
            <a:ext cx="575928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ases de la propuest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trat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abier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direc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u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arant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e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ados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as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iciación de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rdene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éctor Agusto A.</cp:lastModifiedBy>
  <dcterms:modified xsi:type="dcterms:W3CDTF">2006-08-24T16:44:47Z</dcterms:modified>
  <cp:revision>13</cp:revision>
  <dc:subject/>
  <dc:title>EL63A-Taller de Proyecto en Control II</dc:title>
</cp:coreProperties>
</file>